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28A-973D-4587-B629-E6EFA280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539-D3B3-4D58-AD61-81846E0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817-EC14-49FF-8D1A-408BAB1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ACA-9931-4922-B924-30AA8535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CBD-4F1A-43A9-87FC-EDD533C4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76B-596D-49B5-8248-BFFD5C82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CDB-060E-41E6-915F-1B687506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F5F-7D59-4C7A-81F5-F58C0C0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92C-A7E5-4DDB-8227-4832375F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714-AE7B-4EB9-90DF-B11A0AA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F70-2431-40AE-BB7F-E1ADCE4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C62-1DF8-4B6E-9935-85F446A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dfd29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A7F-E6A1-4ACE-B497-6908490B6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esolution of Conflict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bring their stories to an end through the resolution of conflict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In some way, the problem in the story must be solv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rough this process, the main character learns something and often changes for the better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adventure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stories that we have read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as the conflict solved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did the character learn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</a:t>
            </a:r>
            <a:r>
              <a:rPr b="0" i="1" lang="en-US" sz="3600" spc="-1" strike="noStrike">
                <a:solidFill>
                  <a:srgbClr val="dfd293"/>
                </a:solidFill>
                <a:latin typeface="Arial"/>
              </a:rPr>
              <a:t>Brave Irene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Irene solved her conflict with nature by choosing to fight against the storm.</a:t>
            </a:r>
            <a:br>
              <a:rPr sz="3000"/>
            </a:b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She never gave up, even though she may have wanted to do so.</a:t>
            </a:r>
            <a:br>
              <a:rPr sz="3000"/>
            </a:b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In the end, Irene learned that she could be brave and do the things that she was determined to do.</a:t>
            </a: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" name="brave%20irene" descr=""/>
          <p:cNvPicPr/>
          <p:nvPr/>
        </p:nvPicPr>
        <p:blipFill>
          <a:blip r:embed="rId1"/>
          <a:stretch/>
        </p:blipFill>
        <p:spPr>
          <a:xfrm>
            <a:off x="4800600" y="5029200"/>
            <a:ext cx="136224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5280" y="5359320"/>
            <a:ext cx="23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fd293"/>
                </a:solidFill>
                <a:latin typeface="Arial"/>
              </a:rPr>
              <a:t>Brave Ir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fd293"/>
                </a:solidFill>
                <a:latin typeface="Arial"/>
              </a:rPr>
              <a:t>William Ste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story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at you are crea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ill the conflict that you have created be resolved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ill your character fight against nature like Irene or will your character learn to harmonize with nature and use resources like William in “A Lasso for Adagio”?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the story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at you are creating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will your character learn from the experience?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How will he/she change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 a few paragraphs in your notebook about the resolution to the conflict in your story and how it will affect your character. 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Be prepared to share at the end of the workshop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0:11:43Z</dcterms:created>
  <dc:creator>AAPS</dc:creator>
  <dc:description/>
  <dc:language>en-US</dc:language>
  <cp:lastModifiedBy>Carrie Dworkin</cp:lastModifiedBy>
  <dcterms:modified xsi:type="dcterms:W3CDTF">2005-08-16T21:28:42Z</dcterms:modified>
  <cp:revision>7</cp:revision>
  <dc:subject/>
  <dc:title>Resolution of conflict </dc:title>
</cp:coreProperties>
</file>